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D9D8-B0E0-477C-95EF-6A9374074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6299-091B-40F0-94A2-57F90194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E7D-27B8-44D1-9DD4-A01F136F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874-14D8-4582-96A5-DEC798D5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205-3EF0-4DE6-A9CF-45408C64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B47-BCE7-4E38-8952-DF7B5600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A35-54D6-4064-A770-AC55D813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1AF-32BE-4468-B532-2551063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58D-FD76-47AB-AE1C-575650BA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E7A-E0EC-4B59-A077-0E20DAFD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95D-E19C-42D8-9938-D83A47CE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AC3-BC23-46B8-BC43-2076C1A9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E55-EC43-4563-BDC7-2B42D3F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416-9892-40D2-BA52-6148DB3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77D3-3BCC-466A-B179-4E80A4C71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Yo amo One Direction, Ed Sheeran, Little Mix, and Taylor Swift.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Yo soy extrovertida y graciosa. Yo no muerden, add me!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6"/>
          <p:cNvSpPr/>
          <p:nvPr/>
        </p:nvSpPr>
        <p:spPr>
          <a:xfrm flipH="1">
            <a:off x="1371600" y="5715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2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4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5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6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7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685800" y="63244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01:18Z</dcterms:created>
  <dc:creator>FriscoISD</dc:creator>
  <dc:description/>
  <dc:language>en-US</dc:language>
  <cp:lastModifiedBy>NYCDOE</cp:lastModifiedBy>
  <dcterms:modified xsi:type="dcterms:W3CDTF">2012-12-03T14:22:04Z</dcterms:modified>
  <cp:revision>100</cp:revision>
  <dc:subject/>
  <dc:title>Profile</dc:title>
</cp:coreProperties>
</file>